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010-39F8-4B18-92B9-5C24D67B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877-9C4D-4635-9CD3-FD302B52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452-072B-4061-AD86-398D74E9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FD83-F11B-41E5-928A-761CAC60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635C-04E8-430E-9927-7DB3F2D9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8094-5753-489F-8613-AF8B9D8C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E029-421D-4F73-83C3-9ABCADC0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EE97-0E54-4347-BFB0-4ED9C45A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C9BB-5AE2-46CE-A88D-92B1290B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8694-8BE3-4F85-A902-6CDD3B85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9D1E-A860-4AE7-BB0E-83C47CB6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6723-2D23-4DAA-AA90-FCAB06B6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D74B-C0D9-45DA-9F85-48FD3006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2283-3319-4CD2-B7E6-82982AC7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FF11-3C15-4058-BFD1-8A45940E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3412-8D64-4A27-AAD4-1BF973CD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BBC8-FD92-4562-8C06-ECF6EEB0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532-FC8A-4C83-9F83-E8CEB267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625-530B-4586-B459-34C1EEDD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07D-DC9E-463C-8F99-C531FA82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630-9E2F-4239-92C5-F50C26DB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782-EAA6-4C96-951D-CD666CB9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4F9-B442-4949-9499-E21CEA67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A995-7A50-4573-B16D-DEB8D0A7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DA21-A345-4EAD-91A1-30CDD0B85F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5460-8549-4AAC-8896-D7685E3E1E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en.wikipedia.org/wiki/File:Common_carp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en.wikipedia.org/wiki/File:Murray_river_australia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en.wikipedia.org/wiki/File:Murray_cod02_melb_aquarium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European settlement the Murray river is being damaged at a surprising ra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24000" y="342900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"/>
              </a:rPr>
              <a:t>Europeans have introduced alien fish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835280" y="620640"/>
            <a:ext cx="68101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is the Murray River being damaged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933720"/>
            <a:ext cx="87850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"/>
              </a:rPr>
              <a:t>We are using too much water as a result of this water levels are drop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"/>
              </a:rPr>
              <a:t>and salt levels are rising causing a salinity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5300640"/>
            <a:ext cx="813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"/>
              </a:rPr>
              <a:t>Native fish numbers are faltering (decreas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6165720"/>
            <a:ext cx="7129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ff"/>
                </a:solidFill>
                <a:latin typeface="Arial"/>
              </a:rPr>
              <a:t>Cyanobacteria out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583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urrent situation: syanobacteria has occurred in the Murray, it can release dangerous toxins and are created by falling water levels, reduced flow and rising water temperat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132000" y="692280"/>
            <a:ext cx="34005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yiano bacteria outbreak!!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2852640"/>
            <a:ext cx="8136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t can cause skin irritations if touched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3860640"/>
            <a:ext cx="7920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Desired outcome : to increase the flow and water levels of the Murray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 kill the algae naturally. If we kill the algae unnaturally it will release more dea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xins into the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5013360"/>
            <a:ext cx="8064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4797360"/>
            <a:ext cx="770436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Proposed actions and guide lines: We 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not killing it using chemicals because the blue-green algae would just release more tox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6093000"/>
            <a:ext cx="7993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ff"/>
                </a:solidFill>
                <a:latin typeface="Arial"/>
              </a:rPr>
              <a:t>Europeans have introduced Alien fish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77360" y="1628640"/>
            <a:ext cx="79311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Current situation: Carp and other alien fish introduced by Europeans  eating habits are disrupting the food sources of native fish. There fore the native fish will eventually die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3213000"/>
            <a:ext cx="7632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Desired outcome: we want the Carp to be completely extinct in the Murr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5013360"/>
            <a:ext cx="74170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Proposed action and guide lines: In Queensland they are holding carp killing compe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6165720"/>
            <a:ext cx="6985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Arial"/>
              </a:rPr>
              <a:t>Cages are being offered to communities to capture and kill Car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98984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Current situation Farmers and people who use water from the Murray are wasting too much water. Therefore salt levels will rise and the water can become corrosi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11280" y="692280"/>
            <a:ext cx="44388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e are using tooo much water!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997360"/>
            <a:ext cx="81374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Native fish and plants will die if they absorb too much salt water. This could disrupt the whole food cha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3716280"/>
            <a:ext cx="763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Desired outcome: We want too raise water restrictions too reduce the amount of water being wa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4292640"/>
            <a:ext cx="748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More water to be put into the Murray so people will have enough water to use and wildlife to flourish in the Murr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013360"/>
            <a:ext cx="7775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Proposed action and guide lines: New technologies are being used for irrigation such as sprinkl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5516640"/>
            <a:ext cx="7705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The government has purchase $50 million  of water for the Mu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6021360"/>
            <a:ext cx="7704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Planting more deep rooted native plants that can withstand salin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349360"/>
            <a:ext cx="7201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Arial"/>
              </a:rPr>
              <a:t>The Murray River is 11.7%  salt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66ff"/>
                </a:solidFill>
                <a:latin typeface="Arial"/>
              </a:rPr>
              <a:t>Native fish numbers are declining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ff"/>
                </a:solidFill>
                <a:latin typeface="Arial"/>
              </a:rPr>
              <a:t>Current situation: since European settlement native fish numbers have decl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2421000"/>
            <a:ext cx="756144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ff"/>
                </a:solidFill>
                <a:latin typeface="Arial"/>
              </a:rPr>
              <a:t>This  has occurred as a result of introduction of alien fish and rising salination salination lev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645000"/>
            <a:ext cx="7561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ff"/>
                </a:solidFill>
                <a:latin typeface="Arial"/>
              </a:rPr>
              <a:t>Desired outcome: Get rid of alien fish, start native fish breeding programs and protecting</a:t>
            </a:r>
            <a:r>
              <a:rPr b="0" lang="en-US" sz="1600" spc="-1" strike="noStrike">
                <a:solidFill>
                  <a:srgbClr val="9966ff"/>
                </a:solidFill>
                <a:latin typeface="Arial"/>
              </a:rPr>
              <a:t>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ff"/>
                </a:solidFill>
                <a:latin typeface="Arial"/>
              </a:rPr>
              <a:t>Native fis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4797360"/>
            <a:ext cx="748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ff"/>
                </a:solidFill>
                <a:latin typeface="Arial"/>
              </a:rPr>
              <a:t>Native fish numbers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661000"/>
            <a:ext cx="77756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ff"/>
                </a:solidFill>
                <a:latin typeface="Arial"/>
              </a:rPr>
              <a:t>Proposed actions and guidelines: the government has built new fish ways and restocking the native fish spec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Arial"/>
              </a:rPr>
              <a:t>Syan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356000" y="620640"/>
            <a:ext cx="100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Image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3" name="" descr="Algal bloom on water"/>
          <p:cNvPicPr/>
          <p:nvPr/>
        </p:nvPicPr>
        <p:blipFill>
          <a:blip r:embed="rId3"/>
          <a:stretch/>
        </p:blipFill>
        <p:spPr>
          <a:xfrm>
            <a:off x="468360" y="2133720"/>
            <a:ext cx="2663640" cy="1800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Common carp, Cyprinus carpi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708360" y="2924280"/>
            <a:ext cx="2160720" cy="9284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708360" y="2060640"/>
            <a:ext cx="2158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Ca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Cliffs along the Murray River, near Younghusband, South Australia, with a houseboat on the right and an Australian pelican in the foregroun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04000" y="4394160"/>
            <a:ext cx="3240000" cy="2463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21180000">
            <a:off x="6732360" y="3573360"/>
            <a:ext cx="194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Murray 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76360" y="4869000"/>
            <a:ext cx="2376360" cy="1584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525000">
            <a:off x="1834920" y="4437000"/>
            <a:ext cx="1944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Arial"/>
              </a:rPr>
              <a:t>Murray c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3:22:58Z</dcterms:created>
  <dc:creator>Primary School</dc:creator>
  <dc:description/>
  <dc:language>en-US</dc:language>
  <cp:lastModifiedBy>Primary School</cp:lastModifiedBy>
  <dcterms:modified xsi:type="dcterms:W3CDTF">2009-05-13T02:01:47Z</dcterms:modified>
  <cp:revision>9</cp:revision>
  <dc:subject/>
  <dc:title>Since European settlement the Murray river is being damaged at a surprising rate!</dc:title>
</cp:coreProperties>
</file>